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881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421-D441-428C-B0D9-F21B6461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641-B49F-4762-B207-23110491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90A-D031-4540-BA00-62F908BD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7A8-E506-4991-BBA2-09D075EF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215-9414-4435-A497-59D892D8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55C-25CA-4D06-AE62-813B69F2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081-2E4A-4DB5-BEA5-4F071BCB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DD3-E698-4D5F-9821-22CDE3C0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4F1-05E3-494E-BF40-4D6052FC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EC09-1B33-44C0-8B40-21E755D9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4DCD-4576-4B9E-935B-D245FA1B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C7A-166A-4463-A8A8-76181D96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0FFF-B092-40B4-9C9A-F71138930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in Metric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8960" y="2068560"/>
            <a:ext cx="446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1: Measuring in 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838224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458200" cy="3486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2209680"/>
            <a:ext cx="64008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276720"/>
            <a:ext cx="6095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038480"/>
            <a:ext cx="4419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381880" cy="858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44197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534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7240" y="2097000"/>
            <a:ext cx="63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change from one unit to an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23:36:19Z</dcterms:created>
  <dc:creator>Graham</dc:creator>
  <dc:description/>
  <dc:language>en-US</dc:language>
  <cp:lastModifiedBy>Graham</cp:lastModifiedBy>
  <dcterms:modified xsi:type="dcterms:W3CDTF">2011-08-31T23:36:22Z</dcterms:modified>
  <cp:revision>2</cp:revision>
  <dc:subject/>
  <dc:title>Lesson 1.4 Measuring in Metric Units</dc:title>
</cp:coreProperties>
</file>